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9FD-38AA-48FD-9FEA-E2DEFEE7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099-18B4-4993-B2B2-7C5C3A0E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7AF-E2FD-4925-9F48-A23395CC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0D5-6F13-4C6F-A865-12820A30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D98-6911-472E-B923-AE510888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D1A-CA1E-427A-B56A-691C6858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11D-DC70-4B04-8106-57129EA6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C61-CBF2-40D4-84EC-92503544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DCF-B3D3-4440-9554-42EB68CB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06A-A1EA-49AA-A080-1C617C1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D09-C30A-453A-9188-5A2A85E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4D1-0A1E-4BC7-91A3-5369366B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C338-AC9C-4905-9FA4-3D1C89A910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Cj02353790000[1]"/>
          <p:cNvPicPr/>
          <p:nvPr/>
        </p:nvPicPr>
        <p:blipFill>
          <a:blip r:embed="rId1"/>
          <a:stretch/>
        </p:blipFill>
        <p:spPr>
          <a:xfrm>
            <a:off x="3132000" y="2997360"/>
            <a:ext cx="3297240" cy="266832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979640" y="907920"/>
            <a:ext cx="5688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 Twi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050920" y="3573360"/>
            <a:ext cx="2376720" cy="7048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3573360"/>
            <a:ext cx="1873440" cy="7048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24000" y="333360"/>
            <a:ext cx="5372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think of any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 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’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t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 w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’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050920" y="3573360"/>
            <a:ext cx="2232000" cy="1312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doe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64000" y="3573360"/>
            <a:ext cx="1873440" cy="1312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doe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ha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ha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can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ca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050920" y="3573360"/>
            <a:ext cx="2376720" cy="1312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we 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we’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08:46:12Z</dcterms:created>
  <dc:creator>GronertK</dc:creator>
  <dc:description/>
  <dc:language>en-US</dc:language>
  <cp:lastModifiedBy>Laura McDow</cp:lastModifiedBy>
  <dcterms:modified xsi:type="dcterms:W3CDTF">2010-09-21T15:18:11Z</dcterms:modified>
  <cp:revision>7</cp:revision>
  <dc:subject/>
  <dc:title>Tuesday 7th February 2006</dc:title>
</cp:coreProperties>
</file>